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290F-AFAF-4B12-8C70-7A2A8A70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BE0E-9C5C-42E0-A0AE-763B7BADF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F67E-0362-41AD-942C-B9709CD2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F6B3-40E4-465D-B847-14FD1D6B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877-2F2B-4CB2-A9DC-7C7B2B38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573F-A43F-4B0C-9D4B-6131DC777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B69F-29AB-4B98-BF53-3ED47D26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49D7-23F6-4F09-8112-90CA9FD77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0B5B-07ED-4993-8644-B11C09AEC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21BB-7EAF-4B13-BD30-95FD0EF8C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9F77-320B-4CA7-AC04-699820BC3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F0A2-5F4B-4CF0-9527-EA45A4A44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C5AF-2245-4519-8F4E-591E98602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377E-46CE-40D1-B8AF-340922BC9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511D-29F7-454C-B3A9-3249195D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F2F3-4CFD-4B16-9241-21F6C8B9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7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ФАРМАКОЛОГИЈА ХОРМОНА ХИПОТАЛАМУСА И ХИПОФИЗ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2000" y="5286240"/>
            <a:ext cx="657216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хајло Јаковљ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7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иреоидни хормони и антитиреоидни лекови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ицај лекова на биохемијске маркере функције штитасте жлезде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32000" y="5286240"/>
            <a:ext cx="657216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хајло Јаковљ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сновне сврхе хормоналне 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снижене функције неке ендокрине жлезде – надокнада мањка датог хормона (додавање Г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ивање прекомерне функције неке ендокрине жлезде (аминоглутетими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онални дијагностички тестови (давање ТС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неендокриних обољења (кортикостероиди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Штитаста 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ога у контроли општег баланса катаболизма (сагоревања) и анаболизма (синтезе) посредством утицаја на активност великог броја гена и следствено кључних метаболичких енз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ојни значај за раст тела и сазревање мозга синхроно са хормоном раста и инсулином током детињ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 хипотиреоидизма – сниженог лучења Т3 и Т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ална надокнада хормона добијених синтетским путе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вотироксин натријум - Т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отиронин натријум – Т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отрикс (4:1 мешав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диционално добијани млевењем осушених анималних жлезда, данас углавном синтетски – нижа стопа алергијских реакција и поузданије дози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 хипертиреоидизма – повећаног лучења Т3 и Т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 хируршке и радијационе аблације дела ткива жлезде имамо и фармаколошке процедур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диактивни јод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изотоп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 изазива некрозу ткива , тешко одмерити дозу јер често наступа касни јатрогени хипотиреоидизам или је ефекат непотп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иоамиди / Тиоуреилени – инхибиција синтезе хормон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ремете пероксидазу која врши органификацију јода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карбимазол.метимазол.пропилтиоураци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Јонски блокатори преузимања јод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тиоцијанат и перхлор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ена адренергичких бета блок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Јони литијума –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 ефекат супресије јодидима узроковане тиреотокси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ена соли јода и јодних контрастних средстава (РТ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Луголов раствор, јоподат, јопаноинска кисе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ојава и лечење тиреотоксичне олу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пранолол 1-2 мг интравенски + 40-80 мг пер ос - спречавање срчаних аритмија услед појачаног ефекта катехоламин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одид интравенски у циљу заустављања ослобађања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имазол или пропилтиоурацил у циљу заустављања даље синтезе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дрокортизон 50 мг интравенски , превенција циркулаторног ш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лиза - метод крајњег из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сто  хипоталамуса и хипофизе у хуманом моз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штићен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редишњ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оложај у еволутивно старом међумозгу, бочно и испод пода треће мождане ком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а жлезда смештена у коштаном “турском седлу” изнад клинастог синуса у геометријском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ентр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б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аламус – мотор нагонског аутоматизма (глад,жеђ, матерински и нагон за размножавањ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у своју улогу остварује контролом ендокрине “осовине” или директним утицајем у вегетативном нервном сист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ојам хорм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рмон је биолошки активно једињење које ствара и лучи једно ткиво (ендокрина жлезда) и потом га ослобађа у крвоток да би посредством њега пренело “поруку” (остварило утицај) у удаљеним другим циљним тки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рмон је хемијски сигнал-сложена информација у ендокрином као што су неуротрансмитери у нервном и цитокини у имуном сист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 они одражавају природни начин уређења односа у вишећелијском еукариотском орг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сновне сврхе хормоналне 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пституција – надокнада мањка датог хормона (додавање Г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ивање прекомерне функције неке ендокрине жлезде (аминоглутетими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онални дијагностички тестови (давање ТС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неендокриних обољења (кортикостероиди и аутоимунос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дукти секреције хипоталам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4619520" cy="10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лобађајући” и “успављујући” фактори намењени хипофи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24480" y="2205000"/>
            <a:ext cx="46195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ормони пореклом из хипоталамуса ослобођени у регији неурохипоф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50920" y="3860640"/>
            <a:ext cx="461952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n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H / GR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H / PR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RH/M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24480" y="3789360"/>
            <a:ext cx="46195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ДХ – вазопре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сито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дукти секреције хипофи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S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фоликулогенеза , лучење естр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настанак жутог тела јајника , лучење тестосте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H (STH)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општи раст посредством јетриних соматомедин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F1 , IGF2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стимулација тиреоид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лакт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лучење млека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стероидогенеза у кори надбубрежм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S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ланостимулирајући хорм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ска решења у примени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оматотропин / соматре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патуљаст 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оматостатин / октреоид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ромегалија, гигантизам , АПУД-оми , ГИТ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егвисоман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ГХ антагонист) - акромег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тагонисти пролакти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допамински Д2 агонисти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омокриптин,карбеголид,перголид,квинаголи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активни аденоми хипоф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ртикотропин/косинтроп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ЦТ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само у дијагностиц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ска решења у примени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МГ – хумани менопаузални гонадотроп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замена з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С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лечење мушког/женског стерил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ЦГ – хумани хорионски гонадотроп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замена з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индукција ов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Гонадорелини (леупролид,нафарелин, госерелин,хистрел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аналоз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nRH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дукција овулације/ јатрогена хормонална кастрација код хормон зависних тумора (ендометриоза , карциноми дојке и простат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ска решења у примени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иротропин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(ТСХ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дијагностика и терапија потенцијално метастатског карцинома жлезде у комбинацији са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активним ј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ДХ – вазопресин / липресин / дезмопрес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лечење диабетес инспидуса, крварења из варикозних вена једњ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кситоц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индукција порођаја , заустављање постпарталних крваре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тагонисти окситоцина (атосибан)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венција спонтаног побачаја и превременог порођ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1:58:15Z</dcterms:modified>
  <cp:revision>32</cp:revision>
  <dc:subject/>
  <dc:title>Slide 1</dc:title>
</cp:coreProperties>
</file>